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8.png" ContentType="image/png"/>
  <Override PartName="/ppt/media/image10.wmf" ContentType="image/x-wmf"/>
  <Override PartName="/ppt/media/image6.png" ContentType="image/png"/>
  <Override PartName="/ppt/media/Whoosh.wav" ContentType="audio/x-wav"/>
  <Override PartName="/ppt/media/image14.wmf" ContentType="image/x-wmf"/>
  <Override PartName="/ppt/media/GunShot.wav" ContentType="audio/x-wav"/>
  <Override PartName="/ppt/media/image5.wmf" ContentType="image/x-wmf"/>
  <Override PartName="/ppt/media/image4.wmf" ContentType="image/x-wmf"/>
  <Override PartName="/ppt/media/image3.wmf" ContentType="image/x-wmf"/>
  <Override PartName="/ppt/media/Applause.wav" ContentType="audio/x-wav"/>
  <Override PartName="/ppt/media/image9.png" ContentType="image/png"/>
  <Override PartName="/ppt/media/image15.png" ContentType="image/png"/>
  <Override PartName="/ppt/media/Ricochet.wav" ContentType="audio/x-wav"/>
  <Override PartName="/ppt/media/Laser.wav" ContentType="audio/x-wav"/>
  <Override PartName="/ppt/media/image13.wmf" ContentType="image/x-wmf"/>
  <Override PartName="/ppt/media/Explode.wav" ContentType="audio/x-wav"/>
  <Override PartName="/ppt/media/image12.png" ContentType="image/png"/>
  <Override PartName="/ppt/media/image11.wmf" ContentType="image/x-wmf"/>
  <Override PartName="/ppt/media/image7.png" ContentType="image/png"/>
  <Override PartName="/ppt/media/DrumRoll.wav" ContentType="audio/x-wav"/>
  <Override PartName="/ppt/media/image1.wmf" ContentType="image/x-wmf"/>
  <Override PartName="/ppt/media/image2.wmf" ContentType="image/x-wmf"/>
  <Override PartName="/ppt/media/CashReg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39F-1448-469B-BE7C-34C3A9CC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5AB-B3A3-4A7E-BBCD-6B436D4D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8EE-C76B-4C02-833A-7E74D073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212A-1900-411D-B6B6-57E80837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E14B-4591-4DD7-83D8-1BC1E689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9A17-9032-451D-AD5D-E3AD71F5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1343-9201-4B92-8A76-A251B835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1DFC-651A-4B4A-ADD1-8F8DA99E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FB21-DAE6-4DEC-96C6-0F53B3BB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C5A3-5847-4C46-B43D-0F95F136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4960-7A03-4609-B9ED-103DF483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73D-1537-4DE7-8BAB-77C026C9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490D-1D72-4A38-A6F8-40A6A6A6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4658-ABE6-47F6-ACBB-19F1A719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3E39-CB38-4211-B4B7-2FC72FD7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C918-1AA6-4FAE-8737-33A82D97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F614-20CD-4993-A904-8C6A7E5F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F158-B912-44ED-B0E2-BAEEE610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7764-957A-4D7F-8666-8F6E8AE0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7F0-6A08-4F58-A953-2AEFD41A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3F0C-D3CC-4373-A846-F53FA7A5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439-5799-4290-943D-59B56DB6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08CD-99B3-4845-BC3A-4360BEB0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170-1274-49F5-A62F-BBC3EA28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4AC7-CD5C-4748-AA61-BFFB33D83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9A99-249D-4145-BBC1-F3BE8A8898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audio" Target="../media/Ricochet.wav"/><Relationship Id="rId7" Type="http://schemas.openxmlformats.org/officeDocument/2006/relationships/audio" Target="../media/GunShot.wav"/><Relationship Id="rId8" Type="http://schemas.openxmlformats.org/officeDocument/2006/relationships/audio" Target="../media/Explode.wav"/><Relationship Id="rId9" Type="http://schemas.openxmlformats.org/officeDocument/2006/relationships/audio" Target="../media/Laser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The Aims and Objectives of Busines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Object 5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3492360" cy="3962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it is one thing to state a mission or a purpos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ffffcc"/>
                </a:solidFill>
                <a:uFillTx/>
                <a:latin typeface="Times New Roman"/>
              </a:rPr>
              <a:t>but</a:t>
            </a: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 another to achieve it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3429000" y="4038480"/>
            <a:ext cx="2514600" cy="2600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To achieve its purpose, a business must have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Aim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goals the business wants to achie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ractical steps to achieve the go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- usually quantified (measurabl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ffcc66"/>
                </a:solidFill>
                <a:latin typeface="Times New Roman"/>
              </a:rPr>
              <a:t>Aims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1" name="Object 3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3714480" cy="4114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Aims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 business the main aims are usual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Surviva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Profit maximisation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Grow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Many businesses have some or all of the following aims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making a prof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roviding goods and services to the local commun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urviv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anding (see ppt on growth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maximising s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improving quality of produ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improving quality of servi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roviding a highly competitive servi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roviding a charitable servi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roviding a voluntary servi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being environmentally friend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British Airways Ai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being the airline of first choice in key markets”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Object 4" descr=""/>
          <p:cNvPicPr/>
          <p:nvPr/>
        </p:nvPicPr>
        <p:blipFill>
          <a:blip r:embed="rId1"/>
          <a:stretch/>
        </p:blipFill>
        <p:spPr>
          <a:xfrm>
            <a:off x="2895480" y="3733920"/>
            <a:ext cx="3638520" cy="2428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Objectiv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Object 3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191120" cy="3587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Objectives are measurable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a business needs to identify specific practical targets it needs to accomplish in order to achieve its aim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Object 4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438280" cy="1992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914400" y="48006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These are called OBJECTIV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Objectives are quantified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So that success can be easily measured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g British Airways</a:t>
            </a: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uld have an objective</a:t>
            </a: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 “</a:t>
            </a: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to increase sales of air tickets to business passengers by 5% a year in Europe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Aims Vs Objectiv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Aim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re long t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ore subjec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easily measur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re short t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ore objec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asily measur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All Businesses can have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Mission statement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Aim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6629400" y="4267080"/>
            <a:ext cx="1679400" cy="1905120"/>
          </a:xfrm>
          <a:prstGeom prst="rect">
            <a:avLst/>
          </a:prstGeom>
          <a:ln w="0">
            <a:noFill/>
          </a:ln>
        </p:spPr>
      </p:pic>
      <p:pic>
        <p:nvPicPr>
          <p:cNvPr id="98" name="Object 5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1679760" cy="1905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SMAR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ffcc66"/>
                </a:solidFill>
                <a:latin typeface="Times New Roman"/>
              </a:rPr>
              <a:t>SMART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GB" sz="6600" spc="-1" strike="noStrike">
                <a:solidFill>
                  <a:srgbClr val="ffcc66"/>
                </a:solidFill>
                <a:latin typeface="Times New Roman"/>
              </a:rPr>
              <a:t>OBJECTIVE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94920" y="2133720"/>
            <a:ext cx="6629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specif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measurab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agre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realis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time constrain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Object 4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5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3"/>
          <a:stretch/>
        </p:blipFill>
        <p:spPr>
          <a:xfrm>
            <a:off x="2971800" y="4191120"/>
            <a:ext cx="685800" cy="58716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7" descr=""/>
          <p:cNvPicPr/>
          <p:nvPr/>
        </p:nvPicPr>
        <p:blipFill>
          <a:blip r:embed="rId4"/>
          <a:stretch/>
        </p:blipFill>
        <p:spPr>
          <a:xfrm>
            <a:off x="2971800" y="480060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8" descr=""/>
          <p:cNvPicPr/>
          <p:nvPr/>
        </p:nvPicPr>
        <p:blipFill>
          <a:blip r:embed="rId5"/>
          <a:stretch/>
        </p:blipFill>
        <p:spPr>
          <a:xfrm>
            <a:off x="2971800" y="5486400"/>
            <a:ext cx="685800" cy="587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Evaluating performan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Object 3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553000" cy="370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304920" y="2590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ecide ai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057400" y="8380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pecify objectiv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724280" y="7621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Work towards objectiv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324480" y="2286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Check performance regular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662940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</a:rPr>
              <a:t>If unsatisfactor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64832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ake corrective a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971800" y="51814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djust/review objectiv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522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Change ai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762120" y="1219320"/>
            <a:ext cx="1218960" cy="1066680"/>
          </a:xfrm>
          <a:custGeom>
            <a:avLst/>
            <a:gdLst>
              <a:gd name="textAreaLeft" fmla="*/ 701280 w 1218960"/>
              <a:gd name="textAreaRight" fmla="*/ 1028880 w 1218960"/>
              <a:gd name="textAreaTop" fmla="*/ 143640 h 1066680"/>
              <a:gd name="textAreaBottom" fmla="*/ 4564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3581280" y="91440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AutoShape 15"/>
          <p:cNvSpPr/>
          <p:nvPr/>
        </p:nvSpPr>
        <p:spPr>
          <a:xfrm rot="10878000">
            <a:off x="7238880" y="3504960"/>
            <a:ext cx="1146240" cy="1143000"/>
          </a:xfrm>
          <a:custGeom>
            <a:avLst/>
            <a:gdLst>
              <a:gd name="textAreaLeft" fmla="*/ 659520 w 1146240"/>
              <a:gd name="textAreaRight" fmla="*/ 967320 w 114624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AutoShape 16"/>
          <p:cNvSpPr/>
          <p:nvPr/>
        </p:nvSpPr>
        <p:spPr>
          <a:xfrm rot="10878000">
            <a:off x="5028840" y="4876200"/>
            <a:ext cx="1219320" cy="1143000"/>
          </a:xfrm>
          <a:custGeom>
            <a:avLst/>
            <a:gdLst>
              <a:gd name="textAreaLeft" fmla="*/ 701640 w 1219320"/>
              <a:gd name="textAreaRight" fmla="*/ 1028880 w 121932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18"/>
          <p:cNvSpPr/>
          <p:nvPr/>
        </p:nvSpPr>
        <p:spPr>
          <a:xfrm rot="5493000">
            <a:off x="6857640" y="1066680"/>
            <a:ext cx="1218960" cy="1066680"/>
          </a:xfrm>
          <a:custGeom>
            <a:avLst/>
            <a:gdLst>
              <a:gd name="textAreaLeft" fmla="*/ 701280 w 1218960"/>
              <a:gd name="textAreaRight" fmla="*/ 1028880 w 1218960"/>
              <a:gd name="textAreaTop" fmla="*/ 143640 h 1066680"/>
              <a:gd name="textAreaBottom" fmla="*/ 4564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AutoShape 19"/>
          <p:cNvSpPr/>
          <p:nvPr/>
        </p:nvSpPr>
        <p:spPr>
          <a:xfrm>
            <a:off x="1905120" y="5257800"/>
            <a:ext cx="1143000" cy="609480"/>
          </a:xfrm>
          <a:prstGeom prst="leftArrow">
            <a:avLst>
              <a:gd name="adj1" fmla="val 50000"/>
              <a:gd name="adj2" fmla="val 46884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51460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ow to check aims and object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The Aims and Objectives of Busines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9" name="Object 4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3492360" cy="3962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…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the main purpose of a business is stated in a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cc"/>
                </a:solidFill>
                <a:latin typeface="Times New Roman"/>
              </a:rPr>
              <a:t>Mission statemen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3505320" cy="3082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Mission stateme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GB" sz="4000" spc="-1" strike="noStrike">
                <a:solidFill>
                  <a:srgbClr val="ffffcc"/>
                </a:solidFill>
                <a:latin typeface="Times New Roman"/>
              </a:rPr>
              <a:t>by reading a mission statement you can usually tell what a business actually does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Object 4" descr=""/>
          <p:cNvPicPr/>
          <p:nvPr/>
        </p:nvPicPr>
        <p:blipFill>
          <a:blip r:embed="rId1"/>
          <a:stretch/>
        </p:blipFill>
        <p:spPr>
          <a:xfrm>
            <a:off x="3733920" y="3886200"/>
            <a:ext cx="175896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Microsoft’s Mission stat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ill Gates has said that Microsoft’s mission is…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aking the internet, combining it with great software and turning that into the most powerful tool of all time”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Object 4" descr=""/>
          <p:cNvPicPr/>
          <p:nvPr/>
        </p:nvPicPr>
        <p:blipFill>
          <a:blip r:embed="rId1"/>
          <a:stretch/>
        </p:blipFill>
        <p:spPr>
          <a:xfrm>
            <a:off x="7772400" y="5029200"/>
            <a:ext cx="982800" cy="1447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Mission stateme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You should be able to tell that Microsoft is involved with the internet, computers and software development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Object 5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3429000" cy="2247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British Airway’s Mission stat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is “to be the undisputed leader in world travel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Object 6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4496040" cy="2236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British Airway’s Mission stat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...from this you should know that British Airways operates in the travel marke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Object 6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20040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British Airway’s Mission stat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ut it 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not very cl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bout which type of travel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(except for the fact there is the word ‘Airways’ in the Company name!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Object 6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895840" cy="193212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7" descr=""/>
          <p:cNvPicPr/>
          <p:nvPr/>
        </p:nvPicPr>
        <p:blipFill>
          <a:blip r:embed="rId2"/>
          <a:stretch/>
        </p:blipFill>
        <p:spPr>
          <a:xfrm>
            <a:off x="4037040" y="1828800"/>
            <a:ext cx="1928880" cy="4419720"/>
          </a:xfrm>
          <a:prstGeom prst="rect">
            <a:avLst/>
          </a:prstGeom>
          <a:ln w="0">
            <a:noFill/>
          </a:ln>
        </p:spPr>
      </p:pic>
      <p:pic>
        <p:nvPicPr>
          <p:cNvPr id="124" name="Object 8" descr=""/>
          <p:cNvPicPr/>
          <p:nvPr/>
        </p:nvPicPr>
        <p:blipFill>
          <a:blip r:embed="rId3"/>
          <a:stretch/>
        </p:blipFill>
        <p:spPr>
          <a:xfrm>
            <a:off x="6095880" y="4343400"/>
            <a:ext cx="2895840" cy="190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10:31:35Z</dcterms:created>
  <dc:creator>Research Machines plc</dc:creator>
  <dc:description/>
  <dc:language>en-US</dc:language>
  <cp:lastModifiedBy> </cp:lastModifiedBy>
  <dcterms:modified xsi:type="dcterms:W3CDTF">2015-07-27T13:02:10Z</dcterms:modified>
  <cp:revision>3</cp:revision>
  <dc:subject/>
  <dc:title>The Aims and Objectives of Businesses</dc:title>
</cp:coreProperties>
</file>